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D3C-55C4-478E-A9E7-403E36E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B51-6B79-4081-8728-F6FC4C8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A9FD-A4F3-46A2-98AF-033A0739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E47-F979-43F6-B18E-7CFCACCD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A9856-2753-42CD-B6A2-F773F968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5AB0E-0A95-4A23-9D57-F5EB5D73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74FE0-7A4B-423E-9CC3-8BA3CC50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DBDA3-C07F-4481-9F65-1A5B2D15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E16DF-2348-4EE8-BBE7-257E2E6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9353-FEF6-4EF2-A3E4-F23D767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9BA3D-AD33-4013-B205-646EF4BC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390-C210-4654-89CB-09925939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0772-811C-4C10-8011-A5752C12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F2A3-685A-47F5-A845-F65EA6F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3B369-EC86-4380-A77A-CF530411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1A0E-A377-4431-9E5B-B1A9D23D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7660D-6AF2-4229-BB6E-AD2DBAFF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368-F458-4EBF-BD61-7918BB51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8ED-E983-4AD6-B7C5-C869F8A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8EE5-CD4C-40F5-B54C-689E6AA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552-9D32-41E9-8171-F8B73797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711-CBF8-40C4-B83C-C149FC2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BD3-BD6E-4E1C-8F79-9FBAF50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94D-DCBD-4E1D-AC77-E18F450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DECE-161A-410B-A685-ED20057FC5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6E1E-F201-4329-9488-244E687FA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3048120"/>
            <a:ext cx="14479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86280" y="325116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0" y="3048120"/>
            <a:ext cx="685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259600" y="3200400"/>
            <a:ext cx="111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Arial"/>
              </a:rPr>
              <a:t>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at Is Water Pollutio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Water pollution is a change in water, contaminated by harmful substan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75212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962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When Does It Occ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2171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Water pollution occurs when a body of water is affected due to the addition of large amounts of material into the wat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hermal Water Pol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rmal pollution occurs when water is used as a coolant near a industrial plant, and then is returned to the aquatic environment at a higher temperature tha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038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verage Dump In 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As you can see, this is a graph of what is usually dumped into bodies of wa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38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I Predict That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y prediction is that the only way we could stop water pollution is by going out and picking up trash, and encouraging others to do the s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19076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48320" y="1523880"/>
            <a:ext cx="39621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63416"/>
                </a:solidFill>
                <a:latin typeface="Arial"/>
              </a:rPr>
              <a:t>ater   ollu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By: Yours Truly, Breonn Nich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0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447920" y="1981080"/>
            <a:ext cx="5331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9880" y="1905120"/>
            <a:ext cx="5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ff"/>
                </a:solidFill>
                <a:latin typeface="Arial"/>
              </a:rPr>
              <a:t>Scientis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One of the scientist who studies water pollution is Brunel University. Brunel is a hydrologist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2861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Where’s The Math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ere is about 29% of water pollution in Louisiana, 18% in Indiana, 15% in Illinois, and 19% in Ohi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0:04:27Z</dcterms:created>
  <dc:creator>Katina Knighten</dc:creator>
  <dc:description/>
  <dc:language>en-US</dc:language>
  <cp:lastModifiedBy>Katina Knighten</cp:lastModifiedBy>
  <dcterms:modified xsi:type="dcterms:W3CDTF">2010-10-14T02:29:22Z</dcterms:modified>
  <cp:revision>1</cp:revision>
  <dc:subject/>
  <dc:title>ater   ollution</dc:title>
</cp:coreProperties>
</file>